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7E4-D1F4-40FF-BDDF-23D8E070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EA6-7051-4840-8BA8-28F8382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ADB-4A79-4EBF-8543-9F2DB62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FAC-FF6D-4422-98F1-80CBA278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A11-07A5-4BA8-8505-FAAC766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318-69D6-46D6-B4AB-C1C9B02B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2C5-395E-4DF8-B1B6-37168AEF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F11-86CF-497F-B156-A28561E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456-B6D8-46FC-AA97-716C430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A11-A30F-453E-AB8F-4924B762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E36-8903-4068-B8A6-CDD597A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F8-D04A-4BA4-BEBB-655D7C3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1C2A-F757-498C-9B38-5C84A99D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0360" y="932040"/>
            <a:ext cx="702936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Réalis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d'u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Comic Sans MS"/>
              </a:rPr>
              <a:t>thermostat</a:t>
            </a: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60720" y="360360"/>
            <a:ext cx="270036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aux bo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la therm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9280" y="677880"/>
            <a:ext cx="72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900000"/>
            <a:ext cx="1079640" cy="540000"/>
          </a:xfrm>
          <a:custGeom>
            <a:avLst/>
            <a:gdLst>
              <a:gd name="textAreaLeft" fmla="*/ 67320 w 1079640"/>
              <a:gd name="textAreaRight" fmla="*/ 1012320 w 1079640"/>
              <a:gd name="textAreaTop" fmla="*/ 188280 h 540000"/>
              <a:gd name="textAreaBottom" fmla="*/ 351720 h 540000"/>
            </a:gdLst>
            <a:ahLst/>
            <a:rect l="textAreaLeft" t="textAreaTop" r="textAreaRight" b="textAreaBottom"/>
            <a:pathLst>
              <a:path w="21600" h="21600">
                <a:moveTo>
                  <a:pt x="0" y="7540"/>
                </a:moveTo>
                <a:lnTo>
                  <a:pt x="17123" y="7540"/>
                </a:lnTo>
                <a:lnTo>
                  <a:pt x="17123" y="0"/>
                </a:lnTo>
                <a:lnTo>
                  <a:pt x="21600" y="10800"/>
                </a:lnTo>
                <a:lnTo>
                  <a:pt x="17123" y="21600"/>
                </a:lnTo>
                <a:lnTo>
                  <a:pt x="17123" y="14060"/>
                </a:lnTo>
                <a:lnTo>
                  <a:pt x="0" y="14060"/>
                </a:lnTo>
                <a:lnTo>
                  <a:pt x="1351" y="10800"/>
                </a:lnTo>
                <a:lnTo>
                  <a:pt x="0" y="754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360360"/>
            <a:ext cx="2519280" cy="180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EL v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hauff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5580000"/>
            <a:ext cx="216072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seu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60360"/>
            <a:ext cx="216072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seu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9280" y="5759280"/>
            <a:ext cx="1079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5580000"/>
            <a:ext cx="2700360" cy="1440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sion aux bo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la therm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119640"/>
            <a:ext cx="1079640" cy="540000"/>
          </a:xfrm>
          <a:custGeom>
            <a:avLst/>
            <a:gdLst>
              <a:gd name="textAreaLeft" fmla="*/ 67320 w 1079640"/>
              <a:gd name="textAreaRight" fmla="*/ 1012320 w 1079640"/>
              <a:gd name="textAreaTop" fmla="*/ 188280 h 540000"/>
              <a:gd name="textAreaBottom" fmla="*/ 351720 h 540000"/>
            </a:gdLst>
            <a:ahLst/>
            <a:rect l="textAreaLeft" t="textAreaTop" r="textAreaRight" b="textAreaBottom"/>
            <a:pathLst>
              <a:path w="21600" h="21600">
                <a:moveTo>
                  <a:pt x="0" y="7540"/>
                </a:moveTo>
                <a:lnTo>
                  <a:pt x="17123" y="7540"/>
                </a:lnTo>
                <a:lnTo>
                  <a:pt x="17123" y="0"/>
                </a:lnTo>
                <a:lnTo>
                  <a:pt x="21600" y="10800"/>
                </a:lnTo>
                <a:lnTo>
                  <a:pt x="17123" y="21600"/>
                </a:lnTo>
                <a:lnTo>
                  <a:pt x="17123" y="14060"/>
                </a:lnTo>
                <a:lnTo>
                  <a:pt x="0" y="14060"/>
                </a:lnTo>
                <a:lnTo>
                  <a:pt x="1351" y="10800"/>
                </a:lnTo>
                <a:lnTo>
                  <a:pt x="0" y="754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9280" y="5580000"/>
            <a:ext cx="2700360" cy="180036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EL rou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l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hauff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ét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2720880" cy="339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2760" y="1979640"/>
            <a:ext cx="2846520" cy="345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9640" y="3060720"/>
            <a:ext cx="3600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 tension de seuil est réglée pour un déclenchement à 19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40360" y="720720"/>
            <a:ext cx="540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Thermos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400720"/>
            <a:ext cx="3600720" cy="19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367056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8360" y="2700360"/>
            <a:ext cx="3581640" cy="251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0360" y="3433680"/>
            <a:ext cx="5219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iode sili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5580000"/>
            <a:ext cx="5580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rmistance C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3780000"/>
            <a:ext cx="5400720" cy="3773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9400" y="344520"/>
            <a:ext cx="6845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'une diode au silic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586260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80360" y="2340000"/>
            <a:ext cx="2160360" cy="2700360"/>
          </a:xfrm>
          <a:prstGeom prst="downArrowCallout">
            <a:avLst>
              <a:gd name="adj1" fmla="val 13770"/>
              <a:gd name="adj2" fmla="val 14898"/>
              <a:gd name="adj3" fmla="val 27563"/>
              <a:gd name="adj4" fmla="val 191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219640"/>
            <a:ext cx="5219640" cy="1260360"/>
          </a:xfrm>
          <a:prstGeom prst="rightArrow">
            <a:avLst>
              <a:gd name="adj1" fmla="val 68231"/>
              <a:gd name="adj2" fmla="val 5843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ode silicium dans bal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ns un chauffe-ball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49640" y="6659640"/>
            <a:ext cx="5847840" cy="898560"/>
            <a:chOff x="3149640" y="6659640"/>
            <a:chExt cx="5847840" cy="898560"/>
          </a:xfrm>
        </p:grpSpPr>
        <p:sp>
          <p:nvSpPr>
            <p:cNvPr id="54" name=""/>
            <p:cNvSpPr/>
            <p:nvPr/>
          </p:nvSpPr>
          <p:spPr>
            <a:xfrm>
              <a:off x="7917120" y="6659640"/>
              <a:ext cx="1080360" cy="898560"/>
            </a:xfrm>
            <a:custGeom>
              <a:avLst/>
              <a:gdLst/>
              <a:ahLst/>
              <a:rect l="l" t="t" r="r" b="b"/>
              <a:pathLst>
                <a:path w="3001" h="2501">
                  <a:moveTo>
                    <a:pt x="872" y="966"/>
                  </a:moveTo>
                  <a:cubicBezTo>
                    <a:pt x="1068" y="965"/>
                    <a:pt x="1265" y="963"/>
                    <a:pt x="1461" y="962"/>
                  </a:cubicBezTo>
                  <a:cubicBezTo>
                    <a:pt x="1460" y="1211"/>
                    <a:pt x="1459" y="1460"/>
                    <a:pt x="1458" y="1709"/>
                  </a:cubicBezTo>
                  <a:cubicBezTo>
                    <a:pt x="973" y="1713"/>
                    <a:pt x="488" y="1716"/>
                    <a:pt x="3" y="1720"/>
                  </a:cubicBezTo>
                  <a:cubicBezTo>
                    <a:pt x="2" y="1980"/>
                    <a:pt x="2" y="2240"/>
                    <a:pt x="0" y="2500"/>
                  </a:cubicBezTo>
                  <a:cubicBezTo>
                    <a:pt x="795" y="2495"/>
                    <a:pt x="1588" y="2488"/>
                    <a:pt x="2383" y="2483"/>
                  </a:cubicBezTo>
                  <a:cubicBezTo>
                    <a:pt x="2385" y="1973"/>
                    <a:pt x="2387" y="1464"/>
                    <a:pt x="2390" y="956"/>
                  </a:cubicBezTo>
                  <a:cubicBezTo>
                    <a:pt x="2593" y="953"/>
                    <a:pt x="2797" y="952"/>
                    <a:pt x="3000" y="951"/>
                  </a:cubicBezTo>
                  <a:cubicBezTo>
                    <a:pt x="2642" y="633"/>
                    <a:pt x="2286" y="317"/>
                    <a:pt x="1928" y="0"/>
                  </a:cubicBezTo>
                  <a:cubicBezTo>
                    <a:pt x="1576" y="322"/>
                    <a:pt x="1224" y="644"/>
                    <a:pt x="872" y="966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149640" y="7198200"/>
              <a:ext cx="5035680" cy="358200"/>
              <a:chOff x="3149640" y="7198200"/>
              <a:chExt cx="5035680" cy="358200"/>
            </a:xfrm>
          </p:grpSpPr>
          <p:sp>
            <p:nvSpPr>
              <p:cNvPr id="56" name=""/>
              <p:cNvSpPr/>
              <p:nvPr/>
            </p:nvSpPr>
            <p:spPr>
              <a:xfrm>
                <a:off x="3149640" y="7198200"/>
                <a:ext cx="5035680" cy="358200"/>
              </a:xfrm>
              <a:custGeom>
                <a:avLst/>
                <a:gdLst/>
                <a:ahLst/>
                <a:rect l="l" t="t" r="r" b="b"/>
                <a:pathLst>
                  <a:path w="14001" h="1001">
                    <a:moveTo>
                      <a:pt x="0" y="1000"/>
                    </a:moveTo>
                    <a:cubicBezTo>
                      <a:pt x="0" y="667"/>
                      <a:pt x="0" y="333"/>
                      <a:pt x="0" y="0"/>
                    </a:cubicBezTo>
                    <a:cubicBezTo>
                      <a:pt x="4667" y="0"/>
                      <a:pt x="9333" y="0"/>
                      <a:pt x="14000" y="0"/>
                    </a:cubicBezTo>
                    <a:cubicBezTo>
                      <a:pt x="14000" y="333"/>
                      <a:pt x="14000" y="667"/>
                      <a:pt x="14000" y="1000"/>
                    </a:cubicBezTo>
                    <a:cubicBezTo>
                      <a:pt x="9333" y="1000"/>
                      <a:pt x="4667" y="1000"/>
                      <a:pt x="0" y="100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49640" y="7198200"/>
                <a:ext cx="50356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17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résistanc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9539280" cy="61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8720" y="420840"/>
            <a:ext cx="838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tension aux bornes de diode au silicium en fonction de la T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360360"/>
            <a:ext cx="86043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 de la thermistance CT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0000" y="3780000"/>
            <a:ext cx="5219640" cy="341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60360" y="5219640"/>
            <a:ext cx="4680000" cy="720720"/>
          </a:xfrm>
          <a:prstGeom prst="rightArrow">
            <a:avLst>
              <a:gd name="adj1" fmla="val 50000"/>
              <a:gd name="adj2" fmla="val 16233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llon avec  C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5101" b="0"/>
          <a:stretch/>
        </p:blipFill>
        <p:spPr>
          <a:xfrm>
            <a:off x="539640" y="1081080"/>
            <a:ext cx="3973680" cy="341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2340000"/>
            <a:ext cx="2160360" cy="2700360"/>
          </a:xfrm>
          <a:prstGeom prst="downArrowCallout">
            <a:avLst>
              <a:gd name="adj1" fmla="val 13770"/>
              <a:gd name="adj2" fmla="val 14898"/>
              <a:gd name="adj3" fmla="val 27563"/>
              <a:gd name="adj4" fmla="val 191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953928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0360" y="420840"/>
            <a:ext cx="9180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tension aux bornes de la thermistance CTN en fonction de la T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6480000" cy="324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4360" y="4183200"/>
            <a:ext cx="4768920" cy="323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999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u montage compara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80000"/>
            <a:ext cx="5040360" cy="1079280"/>
          </a:xfrm>
          <a:prstGeom prst="rightArrow">
            <a:avLst>
              <a:gd name="adj1" fmla="val 50000"/>
              <a:gd name="adj2" fmla="val 1167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5759280"/>
            <a:ext cx="6300720" cy="900360"/>
          </a:xfrm>
          <a:prstGeom prst="rightArrow">
            <a:avLst>
              <a:gd name="adj1" fmla="val 52824"/>
              <a:gd name="adj2" fmla="val 1506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plificateur opér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2700360"/>
            <a:ext cx="1979640" cy="1800360"/>
          </a:xfrm>
          <a:prstGeom prst="downArrowCallout">
            <a:avLst>
              <a:gd name="adj1" fmla="val 14540"/>
              <a:gd name="adj2" fmla="val 18372"/>
              <a:gd name="adj3" fmla="val 27315"/>
              <a:gd name="adj4" fmla="val 363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énérateu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0360" y="1800360"/>
            <a:ext cx="1800360" cy="4500360"/>
          </a:xfrm>
          <a:prstGeom prst="downArrowCallout">
            <a:avLst>
              <a:gd name="adj1" fmla="val 12381"/>
              <a:gd name="adj2" fmla="val 20528"/>
              <a:gd name="adj3" fmla="val 44636"/>
              <a:gd name="adj4" fmla="val 115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6480000" cy="3240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999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tude du montage compara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560" y="4610160"/>
            <a:ext cx="672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ension générateur 1 &gt; Tension générateu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012000"/>
            <a:ext cx="672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ension générateur 1 &lt; Tension générateur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5149800"/>
            <a:ext cx="45370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EL rouge s'al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5040360"/>
            <a:ext cx="1079280" cy="53964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3280" y="6589800"/>
            <a:ext cx="4378320" cy="546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DEL verte s'al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6480000"/>
            <a:ext cx="1079280" cy="54000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68720" y="2376360"/>
            <a:ext cx="5322960" cy="4853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2000" y="179280"/>
            <a:ext cx="8641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Réalisation du thermos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2360" y="1079640"/>
            <a:ext cx="1979640" cy="2160360"/>
          </a:xfrm>
          <a:prstGeom prst="downArrowCallout">
            <a:avLst>
              <a:gd name="adj1" fmla="val 16168"/>
              <a:gd name="adj2" fmla="val 19662"/>
              <a:gd name="adj3" fmla="val 57722"/>
              <a:gd name="adj4" fmla="val 262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én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ension de seu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1979640"/>
            <a:ext cx="1979640" cy="2879640"/>
          </a:xfrm>
          <a:prstGeom prst="downArrowCallout">
            <a:avLst>
              <a:gd name="adj1" fmla="val 19715"/>
              <a:gd name="adj2" fmla="val 25000"/>
              <a:gd name="adj3" fmla="val 54925"/>
              <a:gd name="adj4" fmla="val 2314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m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00720" y="5219640"/>
            <a:ext cx="3419280" cy="2340000"/>
          </a:xfrm>
          <a:prstGeom prst="upArrowCallout">
            <a:avLst>
              <a:gd name="adj1" fmla="val 20188"/>
              <a:gd name="adj2" fmla="val 20572"/>
              <a:gd name="adj3" fmla="val 25176"/>
              <a:gd name="adj4" fmla="val 8534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E.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Témoin du sens du cou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- Symbolise le chauff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4500720"/>
            <a:ext cx="4859280" cy="720720"/>
          </a:xfrm>
          <a:prstGeom prst="rightArrowCallout">
            <a:avLst>
              <a:gd name="adj1" fmla="val 49931"/>
              <a:gd name="adj2" fmla="val 50000"/>
              <a:gd name="adj3" fmla="val 127166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lificat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érati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4-02T11:21:25Z</dcterms:modified>
  <cp:revision>1</cp:revision>
  <dc:subject/>
  <dc:title>Diapositive 1</dc:title>
</cp:coreProperties>
</file>