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68C-1B46-49C8-9425-888C0C2A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7CB-2F74-4186-95D2-43D2B85A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82C-6FD1-4F2A-A3EA-24566433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38C-D030-4158-BB11-E6D741C7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B89-5008-4737-9A24-4805BA4E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2BA-0105-45EE-AEA1-7F60E9C3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AA5-CE2A-49FF-B332-62267A8A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DB2-85F3-4A75-9891-2F5AC68F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2C1-3332-4900-A329-B3849440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3D4-BF38-45A0-918B-2650D1D3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E63-3322-4829-99C8-C6EBCD37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772-CF2B-4E02-843C-10C1C1D0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DD16C-F475-4288-B06D-43C486F07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00360" y="932040"/>
            <a:ext cx="7029360" cy="51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Comic Sans MS"/>
              </a:rPr>
              <a:t>Réalisa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9600" spc="-1" strike="noStrike" u="sng">
                <a:solidFill>
                  <a:srgbClr val="000000"/>
                </a:solidFill>
                <a:uFillTx/>
                <a:latin typeface="Comic Sans MS"/>
              </a:rPr>
              <a:t>d'u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Comic Sans MS"/>
              </a:rPr>
              <a:t>thermostat</a:t>
            </a: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60720" y="360360"/>
            <a:ext cx="2700360" cy="1440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nsion aux bo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la therm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9280" y="677880"/>
            <a:ext cx="72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900000"/>
            <a:ext cx="1079640" cy="540000"/>
          </a:xfrm>
          <a:custGeom>
            <a:avLst/>
            <a:gdLst>
              <a:gd name="textAreaLeft" fmla="*/ 67320 w 1079640"/>
              <a:gd name="textAreaRight" fmla="*/ 1012320 w 1079640"/>
              <a:gd name="textAreaTop" fmla="*/ 188280 h 540000"/>
              <a:gd name="textAreaBottom" fmla="*/ 351720 h 540000"/>
            </a:gdLst>
            <a:ahLst/>
            <a:rect l="textAreaLeft" t="textAreaTop" r="textAreaRight" b="textAreaBottom"/>
            <a:pathLst>
              <a:path w="21600" h="21600">
                <a:moveTo>
                  <a:pt x="0" y="7540"/>
                </a:moveTo>
                <a:lnTo>
                  <a:pt x="17123" y="7540"/>
                </a:lnTo>
                <a:lnTo>
                  <a:pt x="17123" y="0"/>
                </a:lnTo>
                <a:lnTo>
                  <a:pt x="21600" y="10800"/>
                </a:lnTo>
                <a:lnTo>
                  <a:pt x="17123" y="21600"/>
                </a:lnTo>
                <a:lnTo>
                  <a:pt x="17123" y="14060"/>
                </a:lnTo>
                <a:lnTo>
                  <a:pt x="0" y="14060"/>
                </a:lnTo>
                <a:lnTo>
                  <a:pt x="1351" y="10800"/>
                </a:lnTo>
                <a:lnTo>
                  <a:pt x="0" y="754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99280" y="360360"/>
            <a:ext cx="2519280" cy="18003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DEL v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allu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chauff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al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5580000"/>
            <a:ext cx="2160720" cy="1440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nsion seu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360360"/>
            <a:ext cx="2160720" cy="1440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nsion seu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9280" y="5759280"/>
            <a:ext cx="1079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60720" y="5580000"/>
            <a:ext cx="2700360" cy="1440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nsion aux bo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la therm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119640"/>
            <a:ext cx="1079640" cy="540000"/>
          </a:xfrm>
          <a:custGeom>
            <a:avLst/>
            <a:gdLst>
              <a:gd name="textAreaLeft" fmla="*/ 67320 w 1079640"/>
              <a:gd name="textAreaRight" fmla="*/ 1012320 w 1079640"/>
              <a:gd name="textAreaTop" fmla="*/ 188280 h 540000"/>
              <a:gd name="textAreaBottom" fmla="*/ 351720 h 540000"/>
            </a:gdLst>
            <a:ahLst/>
            <a:rect l="textAreaLeft" t="textAreaTop" r="textAreaRight" b="textAreaBottom"/>
            <a:pathLst>
              <a:path w="21600" h="21600">
                <a:moveTo>
                  <a:pt x="0" y="7540"/>
                </a:moveTo>
                <a:lnTo>
                  <a:pt x="17123" y="7540"/>
                </a:lnTo>
                <a:lnTo>
                  <a:pt x="17123" y="0"/>
                </a:lnTo>
                <a:lnTo>
                  <a:pt x="21600" y="10800"/>
                </a:lnTo>
                <a:lnTo>
                  <a:pt x="17123" y="21600"/>
                </a:lnTo>
                <a:lnTo>
                  <a:pt x="17123" y="14060"/>
                </a:lnTo>
                <a:lnTo>
                  <a:pt x="0" y="14060"/>
                </a:lnTo>
                <a:lnTo>
                  <a:pt x="1351" y="10800"/>
                </a:lnTo>
                <a:lnTo>
                  <a:pt x="0" y="754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9280" y="5580000"/>
            <a:ext cx="2700360" cy="18003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DEL rou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allu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chauff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éte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19480" y="2000160"/>
            <a:ext cx="2720880" cy="339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2760" y="1979640"/>
            <a:ext cx="2846520" cy="345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9640" y="3060720"/>
            <a:ext cx="3600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tension de seuil est réglée pour un déclenchement à 19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140360" y="720720"/>
            <a:ext cx="540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Thermost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5400720"/>
            <a:ext cx="3600720" cy="19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367056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98360" y="2700360"/>
            <a:ext cx="3581640" cy="251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40360" y="3433680"/>
            <a:ext cx="52196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iode silic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40360" y="5580000"/>
            <a:ext cx="5580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rmistance C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0000" y="3780000"/>
            <a:ext cx="5400720" cy="3773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9400" y="344520"/>
            <a:ext cx="6845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tude d'une diode au silic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0360" y="1440000"/>
            <a:ext cx="586260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80360" y="2340000"/>
            <a:ext cx="2160360" cy="2700360"/>
          </a:xfrm>
          <a:prstGeom prst="downArrowCallout">
            <a:avLst>
              <a:gd name="adj1" fmla="val 13770"/>
              <a:gd name="adj2" fmla="val 14898"/>
              <a:gd name="adj3" fmla="val 27563"/>
              <a:gd name="adj4" fmla="val 1916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énér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219640"/>
            <a:ext cx="5219640" cy="1260360"/>
          </a:xfrm>
          <a:prstGeom prst="rightArrow">
            <a:avLst>
              <a:gd name="adj1" fmla="val 68231"/>
              <a:gd name="adj2" fmla="val 5843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ode silicium dans ball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ns un chauffe-ball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149640" y="6659640"/>
            <a:ext cx="5847840" cy="898560"/>
            <a:chOff x="3149640" y="6659640"/>
            <a:chExt cx="5847840" cy="898560"/>
          </a:xfrm>
        </p:grpSpPr>
        <p:sp>
          <p:nvSpPr>
            <p:cNvPr id="54" name=""/>
            <p:cNvSpPr/>
            <p:nvPr/>
          </p:nvSpPr>
          <p:spPr>
            <a:xfrm>
              <a:off x="7917120" y="6659640"/>
              <a:ext cx="1080360" cy="898560"/>
            </a:xfrm>
            <a:custGeom>
              <a:avLst/>
              <a:gdLst/>
              <a:ahLst/>
              <a:rect l="l" t="t" r="r" b="b"/>
              <a:pathLst>
                <a:path w="3001" h="2501">
                  <a:moveTo>
                    <a:pt x="872" y="966"/>
                  </a:moveTo>
                  <a:cubicBezTo>
                    <a:pt x="1068" y="965"/>
                    <a:pt x="1265" y="963"/>
                    <a:pt x="1461" y="962"/>
                  </a:cubicBezTo>
                  <a:cubicBezTo>
                    <a:pt x="1460" y="1211"/>
                    <a:pt x="1459" y="1460"/>
                    <a:pt x="1458" y="1709"/>
                  </a:cubicBezTo>
                  <a:cubicBezTo>
                    <a:pt x="973" y="1713"/>
                    <a:pt x="488" y="1716"/>
                    <a:pt x="3" y="1720"/>
                  </a:cubicBezTo>
                  <a:cubicBezTo>
                    <a:pt x="2" y="1980"/>
                    <a:pt x="2" y="2240"/>
                    <a:pt x="0" y="2500"/>
                  </a:cubicBezTo>
                  <a:cubicBezTo>
                    <a:pt x="795" y="2495"/>
                    <a:pt x="1588" y="2488"/>
                    <a:pt x="2383" y="2483"/>
                  </a:cubicBezTo>
                  <a:cubicBezTo>
                    <a:pt x="2385" y="1973"/>
                    <a:pt x="2387" y="1464"/>
                    <a:pt x="2390" y="956"/>
                  </a:cubicBezTo>
                  <a:cubicBezTo>
                    <a:pt x="2593" y="953"/>
                    <a:pt x="2797" y="952"/>
                    <a:pt x="3000" y="951"/>
                  </a:cubicBezTo>
                  <a:cubicBezTo>
                    <a:pt x="2642" y="633"/>
                    <a:pt x="2286" y="317"/>
                    <a:pt x="1928" y="0"/>
                  </a:cubicBezTo>
                  <a:cubicBezTo>
                    <a:pt x="1576" y="322"/>
                    <a:pt x="1224" y="644"/>
                    <a:pt x="872" y="966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149640" y="7198200"/>
              <a:ext cx="5035680" cy="358200"/>
              <a:chOff x="3149640" y="7198200"/>
              <a:chExt cx="5035680" cy="358200"/>
            </a:xfrm>
          </p:grpSpPr>
          <p:sp>
            <p:nvSpPr>
              <p:cNvPr id="56" name=""/>
              <p:cNvSpPr/>
              <p:nvPr/>
            </p:nvSpPr>
            <p:spPr>
              <a:xfrm>
                <a:off x="3149640" y="7198200"/>
                <a:ext cx="5035680" cy="358200"/>
              </a:xfrm>
              <a:custGeom>
                <a:avLst/>
                <a:gdLst/>
                <a:ahLst/>
                <a:rect l="l" t="t" r="r" b="b"/>
                <a:pathLst>
                  <a:path w="14001" h="1001">
                    <a:moveTo>
                      <a:pt x="0" y="1000"/>
                    </a:moveTo>
                    <a:cubicBezTo>
                      <a:pt x="0" y="667"/>
                      <a:pt x="0" y="333"/>
                      <a:pt x="0" y="0"/>
                    </a:cubicBezTo>
                    <a:cubicBezTo>
                      <a:pt x="4667" y="0"/>
                      <a:pt x="9333" y="0"/>
                      <a:pt x="14000" y="0"/>
                    </a:cubicBezTo>
                    <a:cubicBezTo>
                      <a:pt x="14000" y="333"/>
                      <a:pt x="14000" y="667"/>
                      <a:pt x="14000" y="1000"/>
                    </a:cubicBezTo>
                    <a:cubicBezTo>
                      <a:pt x="9333" y="1000"/>
                      <a:pt x="4667" y="1000"/>
                      <a:pt x="0" y="100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149640" y="7198200"/>
                <a:ext cx="50356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17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résistanc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9539280" cy="611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8720" y="420840"/>
            <a:ext cx="838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tension aux bornes de diode au silicium en fonction de la T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360360"/>
            <a:ext cx="86043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tude de la thermistance CT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0000" y="3780000"/>
            <a:ext cx="5219640" cy="3419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60360" y="5219640"/>
            <a:ext cx="4680000" cy="720720"/>
          </a:xfrm>
          <a:prstGeom prst="rightArrow">
            <a:avLst>
              <a:gd name="adj1" fmla="val 50000"/>
              <a:gd name="adj2" fmla="val 16233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llon avec  C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35101" b="0"/>
          <a:stretch/>
        </p:blipFill>
        <p:spPr>
          <a:xfrm>
            <a:off x="539640" y="1081080"/>
            <a:ext cx="3973680" cy="341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80360" y="2340000"/>
            <a:ext cx="2160360" cy="2700360"/>
          </a:xfrm>
          <a:prstGeom prst="downArrowCallout">
            <a:avLst>
              <a:gd name="adj1" fmla="val 13770"/>
              <a:gd name="adj2" fmla="val 14898"/>
              <a:gd name="adj3" fmla="val 27563"/>
              <a:gd name="adj4" fmla="val 1916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énér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9539280" cy="630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60360" y="420840"/>
            <a:ext cx="9180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tension aux bornes de la thermistance CTN en fonction de la T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6480000" cy="324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24360" y="4183200"/>
            <a:ext cx="4768920" cy="3232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9996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tude du montage compara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4680000"/>
            <a:ext cx="5040360" cy="1079280"/>
          </a:xfrm>
          <a:prstGeom prst="rightArrow">
            <a:avLst>
              <a:gd name="adj1" fmla="val 50000"/>
              <a:gd name="adj2" fmla="val 1167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énérateu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5759280"/>
            <a:ext cx="6300720" cy="900360"/>
          </a:xfrm>
          <a:prstGeom prst="rightArrow">
            <a:avLst>
              <a:gd name="adj1" fmla="val 52824"/>
              <a:gd name="adj2" fmla="val 15068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plificateur opéra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2700360"/>
            <a:ext cx="1979640" cy="1800360"/>
          </a:xfrm>
          <a:prstGeom prst="downArrowCallout">
            <a:avLst>
              <a:gd name="adj1" fmla="val 14540"/>
              <a:gd name="adj2" fmla="val 18372"/>
              <a:gd name="adj3" fmla="val 27315"/>
              <a:gd name="adj4" fmla="val 363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énérateu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80360" y="1800360"/>
            <a:ext cx="1800360" cy="4500360"/>
          </a:xfrm>
          <a:prstGeom prst="downArrowCallout">
            <a:avLst>
              <a:gd name="adj1" fmla="val 12381"/>
              <a:gd name="adj2" fmla="val 20528"/>
              <a:gd name="adj3" fmla="val 44636"/>
              <a:gd name="adj4" fmla="val 1159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6480000" cy="3240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9996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tude du montage compara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560" y="4610160"/>
            <a:ext cx="672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ension générateur 1 &gt; Tension générateur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012000"/>
            <a:ext cx="672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ension générateur 1 &lt; Tension générateur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5149800"/>
            <a:ext cx="45370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DEL rouge s'al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9280" y="5040360"/>
            <a:ext cx="1079280" cy="53964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3280" y="6589800"/>
            <a:ext cx="4378320" cy="54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DEL verte s'al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6480000"/>
            <a:ext cx="1079280" cy="54000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68720" y="2376360"/>
            <a:ext cx="5322960" cy="4853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92000" y="179280"/>
            <a:ext cx="8641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Réalisation du thermost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2360" y="1079640"/>
            <a:ext cx="1979640" cy="2160360"/>
          </a:xfrm>
          <a:prstGeom prst="downArrowCallout">
            <a:avLst>
              <a:gd name="adj1" fmla="val 16168"/>
              <a:gd name="adj2" fmla="val 19662"/>
              <a:gd name="adj3" fmla="val 57722"/>
              <a:gd name="adj4" fmla="val 262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én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ension de seu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80360" y="1979640"/>
            <a:ext cx="1979640" cy="2879640"/>
          </a:xfrm>
          <a:prstGeom prst="downArrowCallout">
            <a:avLst>
              <a:gd name="adj1" fmla="val 19715"/>
              <a:gd name="adj2" fmla="val 25000"/>
              <a:gd name="adj3" fmla="val 54925"/>
              <a:gd name="adj4" fmla="val 2314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m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00720" y="5219640"/>
            <a:ext cx="3419280" cy="2340000"/>
          </a:xfrm>
          <a:prstGeom prst="upArrowCallout">
            <a:avLst>
              <a:gd name="adj1" fmla="val 20188"/>
              <a:gd name="adj2" fmla="val 20572"/>
              <a:gd name="adj3" fmla="val 25176"/>
              <a:gd name="adj4" fmla="val 8534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E.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- Témoin du sens du cou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- Symbolise le chauff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4500720"/>
            <a:ext cx="4859280" cy="720720"/>
          </a:xfrm>
          <a:prstGeom prst="rightArrowCallout">
            <a:avLst>
              <a:gd name="adj1" fmla="val 49931"/>
              <a:gd name="adj2" fmla="val 50000"/>
              <a:gd name="adj3" fmla="val 127166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lificat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ératio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440000"/>
            <a:ext cx="3780000" cy="287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04-02T11:21:25Z</dcterms:modified>
  <cp:revision>1</cp:revision>
  <dc:subject/>
  <dc:title>Diapositive 1</dc:title>
</cp:coreProperties>
</file>