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148-A4C6-4FF5-80AC-2CD5629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958-1B16-4A50-A679-68D86A7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990-2CCD-43D2-8571-EC425797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B86-D46E-453A-AA0A-125155B9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A39-D350-4DB5-9984-B9B4BFE3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92B-2166-4E4A-9C5B-8A7DE5FF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33A-27A3-4439-BFDE-3916670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DF9-E92D-41E1-8869-03A6CB2D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34A-0072-426D-B3BC-DF762571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587-6C50-4AD0-B674-A3608492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66A-8799-4A38-81C6-18EF2B4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2DF-7329-4D3E-9138-A0D70BA9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FB8F5-6070-435D-BF94-DAC94356F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9280" y="2901960"/>
            <a:ext cx="9899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Mangal"/>
              </a:rPr>
              <a:t>L'isol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240000"/>
            <a:ext cx="234000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00360" y="360360"/>
            <a:ext cx="665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 isolants les plus utilis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798200" y="4140360"/>
            <a:ext cx="23432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27400" y="3832200"/>
            <a:ext cx="19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ne de v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2879640"/>
            <a:ext cx="5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9640" y="259884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5562720"/>
            <a:ext cx="16192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ne de ro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0360" y="6473880"/>
            <a:ext cx="28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tyrè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0360" y="5400720"/>
            <a:ext cx="1979640" cy="161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1979280" y="594036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20000" y="4140360"/>
            <a:ext cx="2700360" cy="197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 flipV="1">
            <a:off x="8278560" y="5578200"/>
            <a:ext cx="18252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057400"/>
            <a:ext cx="8459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aines de verre, de roche et le polystyrène sont les isolants les plus utili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7760" y="1944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' isolation d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97964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on isolée  (laine de verr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70036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454720"/>
            <a:ext cx="288000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on tém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n-isolé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375080"/>
            <a:ext cx="270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60720" y="4858920"/>
            <a:ext cx="4319640" cy="14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468000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700360" y="4138560"/>
            <a:ext cx="521964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stance C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4160" y="3389040"/>
            <a:ext cx="44258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'est un dipôle dont la résistance varie en fonction de la tempér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40360" y="161928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00720" y="4319640"/>
            <a:ext cx="21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ude de la thermist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75080" y="1836720"/>
            <a:ext cx="4679640" cy="234000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56160" y="1655640"/>
            <a:ext cx="1440000" cy="360360"/>
          </a:xfrm>
          <a:prstGeom prst="roundRect">
            <a:avLst>
              <a:gd name="adj" fmla="val 4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35440" y="3635280"/>
            <a:ext cx="360360" cy="72072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720720"/>
              <a:gd name="textAreaBottom" fmla="*/ 720360 h 720720"/>
            </a:gdLst>
            <a:ahLst/>
            <a:rect l="textAreaLeft" t="textAreaTop" r="textAreaRight" b="textAreaBottom"/>
            <a:pathLst>
              <a:path w="21600" h="43178">
                <a:moveTo>
                  <a:pt x="95" y="0"/>
                </a:moveTo>
                <a:arcTo wR="95" hR="95" stAng="16200000" swAng="-5400000"/>
                <a:lnTo>
                  <a:pt x="0" y="43083"/>
                </a:lnTo>
                <a:arcTo wR="95" hR="95" stAng="10800000" swAng="-5400000"/>
                <a:lnTo>
                  <a:pt x="21505" y="43178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35440" y="3095640"/>
            <a:ext cx="18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95800" y="3887640"/>
            <a:ext cx="180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5800" y="3995640"/>
            <a:ext cx="1439640" cy="360360"/>
          </a:xfrm>
          <a:prstGeom prst="roundRect">
            <a:avLst>
              <a:gd name="adj" fmla="val 4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73280" y="5075280"/>
            <a:ext cx="2163960" cy="1440"/>
          </a:xfrm>
          <a:prstGeom prst="line">
            <a:avLst/>
          </a:prstGeom>
          <a:ln w="10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5440" y="5256360"/>
            <a:ext cx="53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80160" y="3490920"/>
            <a:ext cx="900000" cy="14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67440" y="3456000"/>
            <a:ext cx="72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4720" y="4302000"/>
            <a:ext cx="1565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5877000"/>
            <a:ext cx="6738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hermistance est placé dans un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étudie la tension à ses bornes en fonction de la tempér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96960" y="1800360"/>
            <a:ext cx="8481960" cy="5271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ution de la tension aux bornes de la thermistance en fonction de la tempé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921040"/>
            <a:ext cx="378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 tension est d'autant plus élev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 la température est ba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79640" y="1836720"/>
            <a:ext cx="4643640" cy="518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80360" y="1440000"/>
            <a:ext cx="2340000" cy="3060720"/>
          </a:xfrm>
          <a:prstGeom prst="cloudCallout">
            <a:avLst>
              <a:gd name="adj1" fmla="val -77023"/>
              <a:gd name="adj2" fmla="val 457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2 maisons avec les capteurs sont placées dans un réfrig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720720"/>
            <a:ext cx="3060720" cy="2700360"/>
          </a:xfrm>
          <a:prstGeom prst="cloudCallout">
            <a:avLst>
              <a:gd name="adj1" fmla="val 79125"/>
              <a:gd name="adj2" fmla="val 6776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cquisition des mesures s'effectue automatiquement pendant 2h à l'aide d'un ordin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0360" y="539640"/>
            <a:ext cx="8999640" cy="648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4751280" y="790200"/>
            <a:ext cx="1800" cy="57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0360"/>
            <a:ext cx="2160360" cy="720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39379"/>
              <a:gd name="adj6" fmla="val -8689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,1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720720"/>
            <a:ext cx="2249280" cy="5396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33240"/>
              <a:gd name="adj6" fmla="val -7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Non-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,2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9640" y="4500720"/>
            <a:ext cx="5759640" cy="1079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4870440"/>
            <a:ext cx="4763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80 min : 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non-isol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c T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Non-iso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4-02T11:20:50Z</dcterms:modified>
  <cp:revision>1</cp:revision>
  <dc:subject/>
  <dc:title>Diapositive 1</dc:title>
</cp:coreProperties>
</file>